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631-0160-45E1-B6F3-5FD0F0C5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640-91A5-4486-BF44-C12A2A2F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866-8A10-4CCA-8027-07D8288B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0F6-9164-41A3-B1FD-075C9E92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556-7ED2-4259-93F3-AE2ED3F4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C1C-B8C3-4B15-9EDB-81A1BF36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8A6-5872-4A6B-9A5D-C0A80DE8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A98-5B37-4098-93E7-BB748676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A47-5EDC-495A-9C0C-DC2949A0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CCF-978B-4303-AB27-A91B1550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491-3E5E-41BE-92FE-0176BF12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2EA-9098-4B48-83D3-2FF8A0DE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5F3E-A7CE-4724-88FA-E86A797DC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pn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pn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285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st Be Sant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, Ho, Ho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rry nos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 on hea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it that’s re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ard that’s whit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09880" y="838080"/>
            <a:ext cx="1371240" cy="685800"/>
            <a:chOff x="3809880" y="838080"/>
            <a:chExt cx="1371240" cy="685800"/>
          </a:xfrm>
        </p:grpSpPr>
        <p:graphicFrame>
          <p:nvGraphicFramePr>
            <p:cNvPr id="83" name=""/>
            <p:cNvGraphicFramePr/>
            <p:nvPr/>
          </p:nvGraphicFramePr>
          <p:xfrm>
            <a:off x="4194720" y="838080"/>
            <a:ext cx="9864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4720" y="838080"/>
                      <a:ext cx="986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"/>
            <p:cNvSpPr/>
            <p:nvPr/>
          </p:nvSpPr>
          <p:spPr>
            <a:xfrm>
              <a:off x="3809880" y="1075320"/>
              <a:ext cx="673920" cy="158040"/>
            </a:xfrm>
            <a:prstGeom prst="rightArrow">
              <a:avLst>
                <a:gd name="adj1" fmla="val 50000"/>
                <a:gd name="adj2" fmla="val 106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114800" y="2819520"/>
            <a:ext cx="708120" cy="6667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5257800" y="3048120"/>
            <a:ext cx="1079640" cy="1218960"/>
            <a:chOff x="5257800" y="3048120"/>
            <a:chExt cx="1079640" cy="1218960"/>
          </a:xfrm>
        </p:grpSpPr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5493600" y="3048120"/>
              <a:ext cx="84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257800" y="349704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0" name=""/>
          <p:cNvGraphicFramePr/>
          <p:nvPr/>
        </p:nvGraphicFramePr>
        <p:xfrm>
          <a:off x="4800600" y="2057400"/>
          <a:ext cx="10605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057400"/>
                    <a:ext cx="10605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657600" y="1523880"/>
          <a:ext cx="104148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1523880"/>
                    <a:ext cx="1041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very soon will come our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y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very soon will com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ight little reindeer pull his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leigh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little reindeer pull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 sleig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10670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indeer sleig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es our way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, Ho, Ho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rry nos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p on hea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it that’s re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ard that’s whit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429000" y="1676520"/>
            <a:ext cx="1371240" cy="685800"/>
            <a:chOff x="3429000" y="1676520"/>
            <a:chExt cx="1371240" cy="685800"/>
          </a:xfrm>
        </p:grpSpPr>
        <p:graphicFrame>
          <p:nvGraphicFramePr>
            <p:cNvPr id="100" name=""/>
            <p:cNvGraphicFramePr/>
            <p:nvPr/>
          </p:nvGraphicFramePr>
          <p:xfrm>
            <a:off x="3813840" y="1676520"/>
            <a:ext cx="9864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13840" y="1676520"/>
                      <a:ext cx="986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3429000" y="1913760"/>
              <a:ext cx="673920" cy="158040"/>
            </a:xfrm>
            <a:prstGeom prst="rightArrow">
              <a:avLst>
                <a:gd name="adj1" fmla="val 50000"/>
                <a:gd name="adj2" fmla="val 106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3429000" y="2286000"/>
          <a:ext cx="91440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286000"/>
                    <a:ext cx="9144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114800" y="2819520"/>
          <a:ext cx="831960" cy="67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819520"/>
                    <a:ext cx="8319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3657600" y="3429000"/>
            <a:ext cx="609480" cy="5745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4800600" y="3886200"/>
            <a:ext cx="990720" cy="838080"/>
            <a:chOff x="4800600" y="3886200"/>
            <a:chExt cx="990720" cy="838080"/>
          </a:xfrm>
        </p:grpSpPr>
        <p:pic>
          <p:nvPicPr>
            <p:cNvPr id="109" name="" descr=""/>
            <p:cNvPicPr/>
            <p:nvPr/>
          </p:nvPicPr>
          <p:blipFill>
            <a:blip r:embed="rId10"/>
            <a:stretch/>
          </p:blipFill>
          <p:spPr>
            <a:xfrm>
              <a:off x="5016960" y="3886200"/>
              <a:ext cx="7743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800600" y="4194720"/>
              <a:ext cx="309960" cy="132120"/>
            </a:xfrm>
            <a:prstGeom prst="rightArrow">
              <a:avLst>
                <a:gd name="adj1" fmla="val 50000"/>
                <a:gd name="adj2" fmla="val 5865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4191120" y="0"/>
            <a:ext cx="1066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’s got a beard that’s long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d white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got a beard that’s long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d whi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9920" y="3048120"/>
            <a:ext cx="2832120" cy="35938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495680" y="990720"/>
            <a:ext cx="1079640" cy="1218960"/>
            <a:chOff x="4495680" y="990720"/>
            <a:chExt cx="1079640" cy="121896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4731480" y="990720"/>
              <a:ext cx="84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495680" y="143964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comes around on a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omes around on a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99072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ard that’s whit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95680" y="457200"/>
            <a:ext cx="708120" cy="66672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943600" y="990720"/>
            <a:ext cx="1079640" cy="1218960"/>
            <a:chOff x="5943600" y="990720"/>
            <a:chExt cx="1079640" cy="1218960"/>
          </a:xfrm>
        </p:grpSpPr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6179400" y="990720"/>
              <a:ext cx="84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43600" y="143964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’s got boots and a sui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 re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got boots and a sui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 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800600" y="1143000"/>
          <a:ext cx="10605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143000"/>
                    <a:ext cx="10605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505320" y="1219320"/>
            <a:ext cx="120636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wears a long cap on his hea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ta wears a long cap on his h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666880" y="3886200"/>
          <a:ext cx="3479760" cy="229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886200"/>
                    <a:ext cx="3479760" cy="22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 on hea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it that’s red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ard that’s whit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48320" y="914400"/>
          <a:ext cx="106020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914400"/>
                    <a:ext cx="10602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038480" y="1676520"/>
            <a:ext cx="70812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3886200" y="228600"/>
          <a:ext cx="104148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228600"/>
                    <a:ext cx="1041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"/>
          <p:cNvGrpSpPr/>
          <p:nvPr/>
        </p:nvGrpSpPr>
        <p:grpSpPr>
          <a:xfrm>
            <a:off x="5486400" y="1981080"/>
            <a:ext cx="1079640" cy="1219320"/>
            <a:chOff x="5486400" y="1981080"/>
            <a:chExt cx="1079640" cy="1219320"/>
          </a:xfrm>
        </p:grpSpPr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5722200" y="1981080"/>
              <a:ext cx="843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486400" y="243036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’s got a great bi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rry nos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got a great big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rry no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676520" y="3657600"/>
            <a:ext cx="4342680" cy="2666160"/>
            <a:chOff x="1676520" y="3657600"/>
            <a:chExt cx="4342680" cy="2666160"/>
          </a:xfrm>
        </p:grpSpPr>
        <p:graphicFrame>
          <p:nvGraphicFramePr>
            <p:cNvPr id="76" name=""/>
            <p:cNvGraphicFramePr/>
            <p:nvPr/>
          </p:nvGraphicFramePr>
          <p:xfrm>
            <a:off x="2895840" y="3657600"/>
            <a:ext cx="3123360" cy="2666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95840" y="3657600"/>
                      <a:ext cx="3123360" cy="266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1676520" y="4580280"/>
              <a:ext cx="2133720" cy="614520"/>
            </a:xfrm>
            <a:prstGeom prst="rightArrow">
              <a:avLst>
                <a:gd name="adj1" fmla="val 50000"/>
                <a:gd name="adj2" fmla="val 8680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laughs this wa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Ho, ho ho?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laughs this wa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Ho, ho, ho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1:41:12Z</dcterms:created>
  <dc:creator>Beth Spreen</dc:creator>
  <dc:description/>
  <dc:language>en-US</dc:language>
  <cp:lastModifiedBy>rmosser</cp:lastModifiedBy>
  <dcterms:modified xsi:type="dcterms:W3CDTF">2009-11-07T20:24:42Z</dcterms:modified>
  <cp:revision>36</cp:revision>
  <dc:subject/>
  <dc:title>Must Be Santa</dc:title>
</cp:coreProperties>
</file>